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8CA-70D7-4E12-8D90-C98363DC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B38-3BD9-4BF6-9F66-F3EA41A1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91D-9DF4-40AE-92AA-5CF1CC5F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3E0-A483-4072-8B61-BE4F3555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6F51-7316-4A70-954E-A6D7D780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D1EC-6523-4C33-B995-1925DCCC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675A-A538-49E6-A3C4-0A790699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F704-17F7-4D96-87FE-2EEBE0FD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D062-7F3F-4E1E-83EE-9997CC90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9BDA-8772-40B2-8DE5-637F2241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0B1A-0E80-450B-BD3C-895BB75B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A26-F144-46A2-892F-53090C3F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E5EF-58D9-44FB-8D17-DAC7502A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74DE-C8E0-46A6-BB4D-DB6AF52D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E67F-B267-4080-8861-91A5DB0E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37F1-C4F5-487A-B413-692280C1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95CA-2169-46E5-AACB-B79A1D67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B89-1B49-47C1-86A6-332B76A8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5D65-838A-4B83-AD1B-74C933B3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F40D-45F7-40BB-B0A8-2305A196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3CC-40DE-475A-875D-D39B5FDA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96B-A349-4CCF-8B10-CC4B278E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631-948E-4FCF-B9BE-BD7488CF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C60-C722-4558-9A2F-B6EB3719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E975-9612-430D-AEE1-E75A17D0E7EC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F8CA-40A3-42CF-95D4-BAA1EFE871D5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1143000"/>
            <a:ext cx="6994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PAŽINIMO PROCESAI: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UTIMAS IR SUVOK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PALVOS PASTOVU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0560" y="2643120"/>
            <a:ext cx="75484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LAUSA 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Amplitudė, daž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Ausis: vidurinė a., vidinė a., sraig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ITI JUTIMAI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yta: spaudimo, šilumos, šalčio ir skausmo derinys; Melzacko ir Wallio „vartų kontrolės“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konis: saldu, rūgštu, sūru ir kar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osl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ūno padėtis ir judėjimas - kineste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UVOK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vokinys - sąmonėje susiformavęs daikto, reiškinio ar įvykio visumos atspind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ercepcija – patyrimo įtaka suvokim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UVOKINIO KŪRIMA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os suvokimas: grupavimo taisyklės (artumas, panašumas, ištisumas, uždarumas, susietu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5042160" cy="316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635280" y="33051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  <a:ea typeface="Arial"/>
              </a:rPr>
              <a:t>Fonas - figū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Laiko suvok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inis laiko interval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mažiausias tarp dviejų įvykių juntamas laiko tarp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tuacijos pobū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tyv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mžiaus faktor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Gylio suvokimas: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 </a:t>
            </a: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trimačių objektų matyma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Binokuliniai signalai: atvaizdų skirtumas tinklainėse, akių konverg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nokuliniai signalai: santykinis dydis, sanklota, oro perspektyva, tekstūros gradientas, santykinis judėjimas, tiesinė perspektyva, santykinis skaistis, santykinis aukš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24360" y="4653000"/>
            <a:ext cx="21607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UVOKIMO PASTOVU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os ir dydžio suvokimo pasto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ydžio suvokimo pasto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onzo iliu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564000" y="3284640"/>
            <a:ext cx="49816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UVOKINIO ĮPRASMIN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ulller-Lyerio iliu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ostatos, apercepcijos sch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00720" y="4365720"/>
            <a:ext cx="382896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ttp://www.michaelbach.de/o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79280" y="1447560"/>
            <a:ext cx="8676720" cy="3392640"/>
            <a:chOff x="179280" y="1447560"/>
            <a:chExt cx="8676720" cy="3392640"/>
          </a:xfrm>
        </p:grpSpPr>
        <p:cxnSp>
          <p:nvCxnSpPr>
            <p:cNvPr id="100" name="_s34830"/>
            <p:cNvCxnSpPr>
              <a:stCxn id="101" idx="1"/>
              <a:endCxn id="102" idx="2"/>
            </p:cNvCxnSpPr>
            <p:nvPr/>
          </p:nvCxnSpPr>
          <p:spPr>
            <a:xfrm rot="10800000">
              <a:off x="2908800" y="2424960"/>
              <a:ext cx="283320" cy="212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34829"/>
            <p:cNvCxnSpPr>
              <a:stCxn id="104" idx="1"/>
              <a:endCxn id="102" idx="2"/>
            </p:cNvCxnSpPr>
            <p:nvPr/>
          </p:nvCxnSpPr>
          <p:spPr>
            <a:xfrm rot="10800000">
              <a:off x="2908800" y="2424960"/>
              <a:ext cx="283320" cy="1323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34828"/>
            <p:cNvCxnSpPr>
              <a:stCxn id="106" idx="1"/>
              <a:endCxn id="102" idx="2"/>
            </p:cNvCxnSpPr>
            <p:nvPr/>
          </p:nvCxnSpPr>
          <p:spPr>
            <a:xfrm rot="10800000">
              <a:off x="2908800" y="2424960"/>
              <a:ext cx="283320" cy="51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34824"/>
            <p:cNvSpPr/>
            <p:nvPr/>
          </p:nvSpPr>
          <p:spPr>
            <a:xfrm>
              <a:off x="179280" y="1447560"/>
              <a:ext cx="5461560" cy="9781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ŠORINIŲ STIMULŲ POVEIKIO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HEM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34825"/>
            <p:cNvSpPr/>
            <p:nvPr/>
          </p:nvSpPr>
          <p:spPr>
            <a:xfrm>
              <a:off x="3192480" y="2654280"/>
              <a:ext cx="5663520" cy="576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ĮVED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4826"/>
            <p:cNvSpPr/>
            <p:nvPr/>
          </p:nvSpPr>
          <p:spPr>
            <a:xfrm>
              <a:off x="3192480" y="3459240"/>
              <a:ext cx="5663520" cy="57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APDOROJ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34827"/>
            <p:cNvSpPr/>
            <p:nvPr/>
          </p:nvSpPr>
          <p:spPr>
            <a:xfrm>
              <a:off x="3192480" y="4263840"/>
              <a:ext cx="5663520" cy="576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ĮPRASMIN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GRINDINĖS SĄVOK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353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utimas –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procesas, primityviai atspindintis daiktų ir reiškinių savybes ar organizmo vidinę būseną, kai tai tiesiogiai veikia jutimo organ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ojūtis (jutimo proceso rezultatas)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— adekvatus dirgiklio, arba stimulo, vaizdas mūsų smegeny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uvoki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psichinis procesas, daikto ar reiškinio vaizdo formavim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ensorinės sistemos -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sistemos, kurios priima išorinius signalus, atlieka jų analizę ir priima sprendimą, koks objektas veikia jų įėjim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ojūčių skirstymas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(sensorinės sistemos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viesos (reg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ustinius (klaus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nius (uoslė, skoni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tilinius (lyt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motorinius (vestibiulik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usmo, temperatūros, vidinės organizmo būsen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nio lauko(?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strasensorinius(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BENDRIEJI POJŪČIŲ YPATUM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dal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tens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rukm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atentinis lai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imtis, tank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autris (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sakomas pojūčių slenksčia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OJŪČIŲ SLENKSČ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bsoliutus žemutinis slenkst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mažiausias dirginimas, kurios reikia konkrečiam dirgikliui aptik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kislenkstinis dirg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kirtumo arba skyrimo slenkst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mažiausias dviejų dirgiklių skirtumas, kurį 50 % atvejų gali aptik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m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ėberio dėsn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: skirtumo slenkstis yra ne pastovus kiekis, bet tam tikras pastovus dirgiklių santy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utimų adapt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REGA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yzdys, rainelė, lęšiukas, akomodacija, tinklainė, stiebeliai (lazdelės), kūgeliai, akloji dėmė, regos nervas, požymių detektor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76360" y="3573360"/>
            <a:ext cx="56768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EGA: SPALVŲ SUVOK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Youngo ir Helmholtzo trijų spalvų teor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: tinklainėje yra 3-jų rūšių spalvos receptorių: kiekvienos jų receptoriai yra ypač jautrūs vienai iš trijų spalvų (žalia, mėlyna, raudo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Oponentinių procesų teorija (Heringas)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: palikusi receptorius, regimoji informacija toliau analizuojama priešingų spalvų požiūriu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800" spc="-1" strike="noStrike">
                <a:solidFill>
                  <a:srgbClr val="330033"/>
                </a:solidFill>
                <a:latin typeface="Tahoma"/>
              </a:rPr>
              <a:t>Oponentinių procesų teorija (pvz.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08280" y="1692360"/>
            <a:ext cx="6121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53:02Z</dcterms:created>
  <dc:creator>TADAS</dc:creator>
  <dc:description/>
  <dc:language>en-US</dc:language>
  <cp:lastModifiedBy> </cp:lastModifiedBy>
  <dcterms:modified xsi:type="dcterms:W3CDTF">2007-09-13T22:08:20Z</dcterms:modified>
  <cp:revision>24</cp:revision>
  <dc:subject/>
  <dc:title>Slide 1</dc:title>
</cp:coreProperties>
</file>